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8BD-E6B9-490C-A084-300010C2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C83-DA13-4641-936E-451EFE1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254-EBB6-4893-9BF3-160D869C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B98-63BB-447B-9BE6-2F0732E2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A168A-8DD5-42F9-A9A2-ECAC07D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972E8-DBFD-4F76-8A9F-21EA3788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1DDB-B7B2-4B3F-82CE-B8A22845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A40B3-AD2D-4BF5-A959-02FB461B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2CBEB-E3F4-4C50-A5AE-F8227B3B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5E51-433F-4293-A511-7A29EF7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DE82B-40F9-46AE-A259-FAC903F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E8E-D7A5-4226-B56A-56A26A7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1916F-CF28-4078-8A42-C1030AA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753D1-D452-45CE-9EA6-A281792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41C95-419B-4A21-B893-A8AB6F0F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14992-CCE3-4FCC-993E-28FCAD36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2BBBE-453E-47F5-8EE8-90E6EFAA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163-1CF1-4FB8-9516-9AE02DF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119-68D5-4BE7-BCFD-CA1E1B2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061-CE99-4E34-ADE8-019AF4BF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EAF-BAAA-4FE7-A1D7-B2939BD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700-0B13-45FF-B429-F84D0CE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619-83DD-47B2-9981-F74F136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955-72FE-4711-B8A3-C89D29C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DC5-4E47-4355-9F2F-1ABE90EFCD8F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C3EC-23E3-43A2-874D-AB4BFB5B86C4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witch.com/water/how-much-water-us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03280" y="692280"/>
            <a:ext cx="6162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궁서"/>
              </a:rPr>
              <a:t>SSJJJ Storage Facil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궁서"/>
              <a:ea typeface="궁서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torage for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What do we use water for in our daily lives?</a:t>
            </a:r>
            <a:endParaRPr b="0" lang="en-US" sz="40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person need to drink 2~3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of water for taking a bath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liters for flushing toilet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liters for washing dishes and coo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3300"/>
                </a:solidFill>
                <a:uFillTx/>
                <a:latin typeface="굴림"/>
                <a:hlinkClick r:id="rId2"/>
              </a:rPr>
              <a:t>http://www.uswitch.com/water/how-much-water-use/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For one person…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3 liters for dri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times for flushing toilet (80 liters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 liters for taking show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5 liters for washing cloth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28 liters of water a day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228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MS Gothic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Gothic"/>
              </a:rPr>
              <a:t>7 liter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49360"/>
            <a:ext cx="835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549360"/>
            <a:ext cx="8496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How many people in a family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Usually there are 2 adults in a family with 2 childr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 4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±1 people in a famil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35 liters x 5 people x 50 families= 5875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Volume of the storage for water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=58750 liter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≈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5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3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best shape to store water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Way of getting the surface are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²+2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h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r(r+h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Surface area of the storage</a:t>
            </a:r>
            <a:endParaRPr b="0" lang="en-US" sz="4400" spc="-1" strike="noStrike">
              <a:solidFill>
                <a:srgbClr val="a50021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844640"/>
          <a:ext cx="8229600" cy="4752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the base 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π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igh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face a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95280" y="3141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35772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23:21Z</dcterms:created>
  <dc:creator>SEC</dc:creator>
  <dc:description/>
  <dc:language>en-US</dc:language>
  <cp:lastModifiedBy>SEC</cp:lastModifiedBy>
  <dcterms:modified xsi:type="dcterms:W3CDTF">2008-11-28T13:15:56Z</dcterms:modified>
  <cp:revision>2</cp:revision>
  <dc:subject/>
  <dc:title>Storage for water</dc:title>
</cp:coreProperties>
</file>